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8E3-3052-4D8E-972C-B96B629F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961-B05E-41BF-A146-19B31372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475-4F3D-4957-A235-D90A343A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31E-4E54-4215-A1D6-681C72C0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D42-8FB3-4DA2-A172-6AEBA252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7DE-4321-4D09-82A3-0AAEE8B7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AD3-0AF6-45D5-8406-94806024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5A0-6137-4211-98C0-1E299017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2EE-D9D7-4537-B195-21ABF48D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D3A-61ED-4720-A5AF-59C0F13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EA7-FA56-4D7E-85CB-673F30B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EBC-AF48-4149-94A5-8A134E56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1B5A-B519-44B1-B00B-4A47370BCFCB}" type="slidenum">
              <a: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7724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veloping a Plan to Transition to    Value-Based Purchasing for Physician     &amp; Other Professional Services (PVB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fining the Opportunit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3282840"/>
            <a:ext cx="555624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effrey Rich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3680" y="5103720"/>
            <a:ext cx="32317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6172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F0C-5496-4A43-9D56-BC8988A711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 Support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re Management for High-Cost Beneficiaries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care Quality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ainsharing Demon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ute Care Episode (ACE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Health Records (EHR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Hom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896-E752-4506-A7B3-8B824A2E44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Initia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8153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Quality Reporting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Resource Us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&amp; Other Professional Services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Care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SRD 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id V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D4C-ECD5-4F13-A9E5-43C7F3FD2D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Go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Medicare beneficiary health outcomes and experience of care by using payment incentives and transparency to encourage higher quality, more efficient professional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DD9-3AE9-47E7-A407-BB93FBB3D2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rogram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the practice of evidence-based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duce fragmentation and du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effective management of chronic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elerate the adoption of effective interoperabl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imulate investments in effective structural components o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seminate transparent and useful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mpower consumers to make value-based health care cho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ncourage health professionals to improve the value of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96E-C5D9-4CC8-9481-360EF0AEE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oluntary consortium of 13 cardiac surgical practices and 17 hospitals providing open-heart surgery in the Commonwealth of Virgi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vened since 1996 to improve the quality of surgical care and contain costs by comparing data and exchang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 type of “accountable care organization” collaborating regionally to implement consensus-based QI projects and create payment mechanisms as a catalyst for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1C0-0AEA-4A57-97B9-94CDDCAC6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elped design a proposed global pricing demonstration with CMS in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ndled pay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me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nd implemented P4P programs with Anthem Blue Cross and Blue Shield of Virgin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-In-Sights: Hospital Incentive Program (Q-HI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Physician Performance Program (Q-P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ign hospital and physician goals to foster collabo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2008 Eisenberg Patient Safety-Quality Award from NQF-The Joint Com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154-0002-40E7-9C8A-A578E81C1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clu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ing this PVBP Plan provides an important opportunity to explore a wide range of options appropriate to the diversity of practice arrangements and settings of c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cusing on both longer term and short-term timeframes will enable immediate changes to be designed with longer-term objectives in m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B67-7271-43E3-A451-8678C8CB39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text for PVBP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S goal and objectives for the PVBP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ighlights of my own experience to illustrate the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ortance of this eff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3CF-3B4D-490C-8994-FFD896AA7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ision: The right care for every person ever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c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8B2-DFA5-4E7C-81FF-0F036D0C7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ork through partner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quality and report comparative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ue-Based Purchasing (VBP): improve quality and avoid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adoption of effectiv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innovation and the evidence base for effective use of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427-31D6-4F75-A213-1E3647E237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at Does VBP Mean to CM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ansforming Medicare from a passive payer to an active purchaser of higher quality, more efficient health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ools and initiatives for promoting better quality, while avoiding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Tools: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measurement, payment incentives, public reporting, conditions of participation, coverage policy, QIO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Initiatives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  pay for reporting, pay for performance, gainsharing, competi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dding, bundled payment, coverage decisions, direct provider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34C-EDE5-4309-BF55-8A42421E7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Quality improvement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nnberg’s Dartmouth Atlas on variation in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Glynn’s NEJM findings on lack of evidence-bas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OM’s Crossing the Quality Chasm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oid Unnecessary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’s various fee-for-service fee schedules and prospective payment systems based on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resource consumptio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nt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f care, NOT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r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unnecessary costs avo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yment systems’ incentives are not alig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9C9-C3FC-4E08-9B18-AC1F0D3118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Medicare Solvency and Beneficiary Imp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penditures up from $219 billion in 2000 to a projected $486 billion in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A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cess of expenditures over tax income in 200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jected to be depleted by 20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B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penditures increasing 11% per year over the last 6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premiums, deductibles, and cost-sharing projected to consume 28% of the average beneficiary’s Social Security check in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518-6390-45C0-A324-F3859BB51C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pport for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sident’s Budg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Ys 2006-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gressional Interest in P4P and Other VBP To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PA, MMA, DRA, TRHCA, MMSEA, MIP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PAC Reports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on quality, efficiency, health information technology, and payment re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OM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in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o Err Is Huma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rossing the Quality Cha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Rewarding Provider Performance: Aligning Incentives in Medi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vate Se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vate health pl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ployer coal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9D6-F72F-4331-8D42-BAF842F10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mier Hospital Quality Incentiv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Care Management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Nursing Home Value-Based Purchasing Demon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Pay for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8A5-CE1C-446B-9F8B-3D334E32A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51:44Z</dcterms:modified>
  <cp:revision>4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8274953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 - one replacement</vt:lpwstr>
  </property>
  <property fmtid="{D5CDD505-2E9C-101B-9397-08002B2CF9AE}" pid="6" name="_NewReviewCycle">
    <vt:lpwstr/>
  </property>
  <property fmtid="{D5CDD505-2E9C-101B-9397-08002B2CF9AE}" pid="7" name="_PreviousAdHocReviewCycleID">
    <vt:r8>1541296745</vt:r8>
  </property>
</Properties>
</file>